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7EB86-2CB9-4588-82D0-FCBF39C21A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D6BD7-712F-442C-894F-86C323EE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0E2DB-8485-4238-B1BD-22E518B2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9E4B7-692E-44AA-AB15-13BE7DE791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CADD6-AE36-423C-B1CC-F76A2F40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3FDA6-5B85-4E2C-B14F-D3CFB2E4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4B274-3537-4ACB-9405-7DE9FD65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6B616-3D68-44F3-B3DE-1466EEBB0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4BB6A-43F2-4174-B6F7-AE1801250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BA0AC-9214-4925-92BD-8AAC606F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0E862-F9C9-4240-99D8-0212C93C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2C03D-0FF8-43E9-91D8-C0DB333A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407D-5B9F-40E6-BBB2-DF80884496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片 3" descr="说明: D:\yp\肠梗阻\粘连性肠梗阻2.jpg"/>
          <p:cNvPicPr/>
          <p:nvPr/>
        </p:nvPicPr>
        <p:blipFill>
          <a:blip r:embed="rId1"/>
          <a:stretch/>
        </p:blipFill>
        <p:spPr>
          <a:xfrm>
            <a:off x="2195640" y="1413000"/>
            <a:ext cx="4897440" cy="45291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3761280" y="5940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粘连性肠梗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础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、解痉、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适用于单纯性粘连性（特别是不完全性）肠梗阻、麻痹性或痉挛性肠梗阻、单纯性肠蛔虫堵塞、肠套叠早期等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适用于各种绞窄性肠梗阻、肿瘤及先天性肠道畸形引起的肠梗阻、以及非手术治疗无效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粘连性肠梗阻，给予禁食、胃肠减压、补液、抗炎等非手术治疗。治疗后病情未好转，发展为绞窄性肠梗阻，现拟行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在非手术治疗期间的病情观察重点是什么？②手术前后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肠内容物不能顺利通过肠道，肠蠕动增加，或手术治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与呕吐、胃肠减压、肠腔或腹腔内大量积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腹腔感染、肠粘连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79280" y="107280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：若出现下列表现，应考虑绞窄性肠梗阻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发作急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发展迅速，早期出现休克，抗休克治疗后改善不明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明显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胀不对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呕吐物、胃肠减压抽出液、肛门排出物为血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积极非手术治疗后症状体征无明显改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见孤立、突出胀大的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继续禁食、胃肠减压，通过静脉输液补充液体和营养。待肛门排气后可拔除胃管，逐渐恢复饮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麻醉清醒后取半卧位。鼓励患者早活动，以促进肠道功能恢复，防止肠粘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遵医嘱使用抗生素以预防和控制腹腔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暴饮暴食，忌饭后剧烈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养成良好卫生习惯，注意饮食卫生，饭前便后洗手，避免肠道寄生虫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老年人及肠道功能不全有便秘现象者应进食易消化食物，经常按顺时针方向按摩腹部，以保持排便通畅。若无效则及时给予缓泻剂协助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出现腹痛、呕吐、腹胀或停止肛门排气排便等不适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肠梗阻的病因和分类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肠梗阻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不同类型肠梗阻患者的发病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单纯性肠梗阻和绞窄性肠梗阻患者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肠梗阻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和分类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发病基本原因分为机械性、动力性和血运性肠梗阻。按肠壁有无血运障碍分为单纯性和绞窄性肠梗阻。按梗阻程度可分为完全性肠梗阻和不完全性肠梗阻。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肠梗阻患者可有不同临床表现，共同表现包括腹痛、呕吐、腹胀和停止自肛门排气排便。同时，患者可有腹部和全身相应的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为矫正因肠梗阻所引起的全身生理紊乱和解除梗阻。其中，基础治疗主要包括胃肠减压，纠正水、电解质和酸碱失衡，防治感染和中毒，以及镇静、解痉、止痛。解除梗阻的治疗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包括非手术治疗和手术治疗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和非手术治疗期间应禁食、胃肠减压，做好体位、呕吐、补液和用药护理，同时严密观察病情，及早发现绞窄性肠梗阻征象；术后注意饮食、体位和活动护理，防治感染。另外，应教会患者和健康人群积极预防和及时发现肠梗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任何原因引起的肠内容物不能顺利通过肠道即为肠梗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testinal obstru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梗阻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肠梗阻发生的基本原因可将其分为三类，其中机械性肠梗阻最常见，动力性肠梗阻（包括麻痹性和痉挛性肠梗阻）和血运性肠梗阻较少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肠壁有无血运障碍，可分为单纯性肠梗阻和绞窄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梗阻程度可分为完全性肠梗阻和不完全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7640" y="1371240"/>
            <a:ext cx="90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阵发性全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以右下腹处疼痛最明显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来疼痛加重并呕吐数次，呕吐后未再进食，也未排气排便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曾因急性阑尾炎行阑尾切除术，术后曾有切口感染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后多次出现腹痛发作，情况与本次相似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0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皮肤弹性较差，腹部稍胀，未见肠型和蠕动波，未触及包块，叩诊鼓音，肠鸣音亢进，可闻及气过水声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肠腔中可见多个气液平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排气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600" y="1125000"/>
            <a:ext cx="9096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望诊：机械性肠梗阻常可见肠型和蠕动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：单纯性肠梗阻时因肠管膨胀，可有轻度压痛。绞窄性肠梗阻时可有固定压痛和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叩诊：绞窄性肠梗阻时因腹腔有渗液，移动性浊音可为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听诊：机械性肠梗阻时肠鸣音亢进，可闻及气过水声或金属音。麻痹性肠梗阻时肠鸣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状况多无明显改变。梗阻晚期或绞窄性肠梗阻患者可有唇干舌燥、皮肤弹性消失，尿少或无尿等缺水征。也可有脉搏细速、血压下降、面色苍白、四肢发冷等中毒和休克征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60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立位或侧卧位平片可见多个液平面和胀气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乙状结肠扭转患者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马蹄状巨大的双腔充气肠袢，立位可见两个液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套叠患者空气或钡剂灌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空气或钡剂在结肠受阻，受阻端钡影呈“杯口状”甚至“弹簧状”阴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图片 1" descr="说明: D:\yp\肠梗阻\乙状结肠扭转.gif"/>
          <p:cNvPicPr/>
          <p:nvPr/>
        </p:nvPicPr>
        <p:blipFill>
          <a:blip r:embed="rId1"/>
          <a:stretch/>
        </p:blipFill>
        <p:spPr>
          <a:xfrm>
            <a:off x="760320" y="1501920"/>
            <a:ext cx="3019680" cy="423072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2" descr="说明: D:\yp\肠梗阻\回盲肠套叠.gif.jpg"/>
          <p:cNvPicPr/>
          <p:nvPr/>
        </p:nvPicPr>
        <p:blipFill>
          <a:blip r:embed="rId2"/>
          <a:stretch/>
        </p:blipFill>
        <p:spPr>
          <a:xfrm>
            <a:off x="4732200" y="1717560"/>
            <a:ext cx="3656160" cy="3583080"/>
          </a:xfrm>
          <a:prstGeom prst="rect">
            <a:avLst/>
          </a:prstGeom>
          <a:ln w="0">
            <a:noFill/>
          </a:ln>
        </p:spPr>
      </p:pic>
      <p:sp>
        <p:nvSpPr>
          <p:cNvPr id="130" name="矩形 4"/>
          <p:cNvSpPr/>
          <p:nvPr/>
        </p:nvSpPr>
        <p:spPr>
          <a:xfrm>
            <a:off x="6294960" y="5465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回盲部肠套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1974600" y="548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乙状结肠扭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42:16Z</dcterms:modified>
  <cp:revision>111</cp:revision>
  <dc:subject/>
  <dc:title>内科护理学</dc:title>
</cp:coreProperties>
</file>